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692-8DBA-4CF8-B57E-1351F7B2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758-C8AA-42C7-8395-5A30D9FC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1DC-6373-4CC6-8131-A06E3C5D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754-A4CF-40F9-B4EE-2C102FD6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DF30-21A6-4C62-854F-B164EB42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D07D-4D18-42AD-B5E0-B066C923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AB9E-2D7A-4F86-83EC-6C6C1429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2F0F-19AA-4532-AF59-B54DE806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08C3-2508-4ED7-83F6-969990CD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79FE-0AF5-4A1A-B971-EEBF199A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CF6B-2135-4081-9705-FEB7975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510-5214-4515-AB20-9B1424F9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6137-C379-4AE2-8A09-55C55148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650B-2FBA-4496-8660-AABD9FF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B3B9-3348-4541-A205-CF593A5B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2F41-E4EF-4D55-8F16-44B51DC3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72CC-F430-422D-9D1C-3C022D4A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5CC6F-E78A-423D-AD9F-1963F6B1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093B3-69AF-4BDA-B2EF-A9390149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A1BBA-50F4-4191-88F6-6773852F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A962A-541A-4AFE-B07C-3869B362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7E569-BC43-4A07-B11E-427BE49F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65F-C660-476C-8127-7124E670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6B6FF-7B9C-41C7-A50D-A87A08AB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11BC4-B260-4FDC-AFF6-0BBDFCE1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96499-2221-45F0-BB0D-F4F6ECA7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4E4C6-ACA2-4709-9E51-CE05467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E8BBD-622B-4312-8D7E-662B686D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F035D-BAA8-457B-9829-BB1FB6D1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20C4C-8847-4EB9-88A8-A08D9E46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6F770-8D2A-4E4C-A87E-2DCC4C43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89AA-B9E4-4ABD-9C91-8319C93E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088B-7C1E-4C40-9848-1AFFE6AF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835-EDC8-4CD7-A28C-CD1FC10B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610F-191A-437B-AFA0-535EB227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3FD5-8C8A-4647-A826-F3ED6787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B497A-8101-48EE-AEFA-390CDB03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8B6A9-E2CE-45EF-BC73-991654A9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86C29-DF34-4EE2-A0C8-CDB19B0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EBC6-2791-49BA-9EBC-E5DBEB02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904A5-12CB-4C64-A377-FC97D71F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C5581-1E43-402E-82FF-6D1905EC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DC65-2877-4965-BCA9-FD578BBB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899-B9A1-44BB-9C0A-6DFD6C46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5A5-85E8-4B5F-AB10-AC9090BF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1A9-4ECF-4375-BC5D-D72E1EC5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273-D2C8-4D9B-86CD-9C5E7AEA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730-989C-4CF1-A008-1C02FBD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C994-8480-40F9-A72C-3E7E6DCD13B6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42F4-6D18-426A-93CE-40C682DF259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EA06-71DE-4753-B263-13DBB56E3AFD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51AC-E6BA-4EBC-A20D-19363E0BE1AF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DEAF-206C-4D03-A8E8-E30C60F04293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DA81-F23C-4D0C-AFD4-318D1AC8391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946-EBB2-4A36-BDA6-81D6CFD35ED4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7C37-2ED6-4DD7-8095-5EE71E3830A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Why Physical Exercise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Health Issue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Sophia Gammerle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Quarter 3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itations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http://www.gesundheit.de/fitness/fitness-uebungen/rueckenuebungen/rueckenuebungen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http://www.funvit.de/artikel/Bewegung_als_Rezept_fuer_Vitalitaet_und_ein_gesundes_Herz_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http://seek4fitness.net/de/Artikel/View/FAQs-zu-Übungen-und-Gesundheit.htm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http://www.provita-fitness.d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ulture Pictur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9" name="Content Placeholder 11" descr="bi-willkommen-provita-fitness-gesundheit-seniorensport-springe-003-1.jpg"/>
          <p:cNvPicPr/>
          <p:nvPr/>
        </p:nvPicPr>
        <p:blipFill>
          <a:blip r:embed="rId1"/>
          <a:srcRect l="-13138" t="0" r="-13138" b="0"/>
          <a:stretch/>
        </p:blipFill>
        <p:spPr>
          <a:xfrm>
            <a:off x="701640" y="2170080"/>
            <a:ext cx="7802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Physical Exercise helps in many way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hysical exercise helps lower diabetes ris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ck pain can be reduced by doing different exercise mov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 healthy heart will be rewarded with daily exercis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mmune system will be stronger and can fight sickness better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t also helps with joint pain which is called Gelenkschmerzen in Germany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 problem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0" name="Content Placeholder 3" descr="images.jpeg"/>
          <p:cNvPicPr/>
          <p:nvPr/>
        </p:nvPicPr>
        <p:blipFill>
          <a:blip r:embed="rId1"/>
          <a:srcRect l="0" t="11111" r="0" b="11111"/>
          <a:stretch/>
        </p:blipFill>
        <p:spPr>
          <a:xfrm>
            <a:off x="1414440" y="2467080"/>
            <a:ext cx="3780000" cy="1955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images-1.jpeg"/>
          <p:cNvPicPr/>
          <p:nvPr/>
        </p:nvPicPr>
        <p:blipFill>
          <a:blip r:embed="rId2"/>
          <a:stretch/>
        </p:blipFill>
        <p:spPr>
          <a:xfrm>
            <a:off x="4664160" y="2995560"/>
            <a:ext cx="2717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re is a quote in German: “Sport hält jung!” This translates into: “Sport makes you stay young!”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or older people it is important to work on the muscle tissue for better flexibility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70% of Germans have once a year back problem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is is because of sitting at work too long and not having exercise dail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re are many ways to ease back problems, some are yoga and pilates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ercise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Content Placeholder 3" descr="vierfuesslerstand.jpg"/>
          <p:cNvPicPr/>
          <p:nvPr/>
        </p:nvPicPr>
        <p:blipFill>
          <a:blip r:embed="rId1"/>
          <a:srcRect l="0" t="10990" r="0" b="10990"/>
          <a:stretch/>
        </p:blipFill>
        <p:spPr>
          <a:xfrm>
            <a:off x="1042920" y="2324160"/>
            <a:ext cx="4025880" cy="2084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articles.jpg"/>
          <p:cNvPicPr/>
          <p:nvPr/>
        </p:nvPicPr>
        <p:blipFill>
          <a:blip r:embed="rId2"/>
          <a:stretch/>
        </p:blipFill>
        <p:spPr>
          <a:xfrm>
            <a:off x="4471920" y="3973680"/>
            <a:ext cx="337176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ercise is neede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retching is needed for the Muscles to not tense up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ith exercise your body feels better and you don’t run in to too many problems of having pain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ercise should not hurt it has to feel good to you and your body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y little movement helps like taking a walk, garden work, or riding your bik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ercise also helps with burning fat. You don</a:t>
            </a:r>
            <a:r>
              <a:rPr b="0" lang="fr-FR" sz="2200" spc="-1" strike="noStrike">
                <a:solidFill>
                  <a:srgbClr val="3e3d2d"/>
                </a:solidFill>
                <a:latin typeface="Century Gothic"/>
              </a:rPr>
              <a:t>’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 need a long workout, 30min. workout is fin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c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Content Placeholder 5" descr="images-3.jpeg"/>
          <p:cNvPicPr/>
          <p:nvPr/>
        </p:nvPicPr>
        <p:blipFill>
          <a:blip r:embed="rId1"/>
          <a:srcRect l="0" t="11111" r="0" b="11111"/>
          <a:stretch/>
        </p:blipFill>
        <p:spPr>
          <a:xfrm>
            <a:off x="1042920" y="2338560"/>
            <a:ext cx="4165560" cy="2155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images-4.jpeg"/>
          <p:cNvPicPr/>
          <p:nvPr/>
        </p:nvPicPr>
        <p:blipFill>
          <a:blip r:embed="rId2"/>
          <a:stretch/>
        </p:blipFill>
        <p:spPr>
          <a:xfrm>
            <a:off x="4896000" y="2935440"/>
            <a:ext cx="25653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Questions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is the most common pain problem in Germany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w limited in time can the workout be, to be affective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nswers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ck pai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0 minut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7:43:47Z</dcterms:created>
  <dc:creator>Sophia1 Gammerler</dc:creator>
  <dc:description/>
  <dc:language>en-US</dc:language>
  <cp:lastModifiedBy>Sophia1 Gammerler</cp:lastModifiedBy>
  <dcterms:modified xsi:type="dcterms:W3CDTF">2013-01-28T17:49:55Z</dcterms:modified>
  <cp:revision>13</cp:revision>
  <dc:subject/>
  <dc:title>Why Physical Exercise?</dc:title>
</cp:coreProperties>
</file>